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3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1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62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0.png" ContentType="image/png"/>
  <Override PartName="/ppt/media/image37.jpeg" ContentType="image/jpeg"/>
  <Override PartName="/ppt/media/image3.jpeg" ContentType="image/jpeg"/>
  <Override PartName="/ppt/media/image50.jpeg" ContentType="image/jpeg"/>
  <Override PartName="/ppt/media/image59.png" ContentType="image/png"/>
  <Override PartName="/ppt/media/image24.jpeg" ContentType="image/jpeg"/>
  <Override PartName="/ppt/media/image22.png" ContentType="image/png"/>
  <Override PartName="/ppt/media/image51.jpeg" ContentType="image/jpeg"/>
  <Override PartName="/ppt/media/image60.png" ContentType="image/png"/>
  <Override PartName="/ppt/media/image63.jpeg" ContentType="image/jpeg"/>
  <Override PartName="/ppt/media/image2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1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40.jpeg" ContentType="image/jpeg"/>
  <Override PartName="/ppt/media/image44.png" ContentType="image/pn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A348-71D5-4D74-9646-34D985FD0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elescopes Changed our Understanding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elescopes Changed our Understanding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 of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 of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the stars 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drich Wilhelm Be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önigsberg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the stars 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drich Wilhelm Be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önigsberg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3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tar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3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tar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unho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unho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un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rchh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un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rchh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ed: The Sun is a St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other Su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ed: The Sun is a St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other Su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4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Sun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4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Sun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ley observes dense star cluster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 M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 Wilson 60-inch Reflector Telescope (completed in 19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low Sha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etta Leavi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ley observes dense star cluster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 M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 Wilson 60-inch Reflector Telescope (completed in 19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low Sha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etta Leavi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and planets were at the center, globular clusters would be evenly distributed around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Shapley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and planets were at the center, globular clusters would be evenly distributed around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Shapley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 establish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s are distributed to one side of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 is nearer the edge of the Galax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 establish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s are distributed to one side of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 is nearer the edge of the Galax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only had our eye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variety of measuring instr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only had our eye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variety of measuring instr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5: One Galaxy or Man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5: One Galaxy or Man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“nebulae” determi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 Wilson 100-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ubble’s photographs of the Andromeda “Nebula” with Cepheid variable ma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“nebulae” determi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 Wilson 100-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ubble’s photographs of the Andromeda “Nebula” with Cepheid variable ma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ing a universe full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ing a universe full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6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the universe have a 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’s data showed that the more distant galaxies are moving away faster than the closer galax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6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the universe have a 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’s data showed that the more distant galaxies are moving away faster than the closer galax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Big Bang detec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Big Bang detec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the Universe calcul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the Universe calcul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schel’s telescope -- used to discover Uranus in 17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own solar system, telescopes found plan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yes could not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7: Are there other plan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schel’s telescope -- used to discover Uranus in 17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own solar system, telescopes found plan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yes could not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7: Are there other plan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ff Mar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orlds discov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’s through To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ff Mar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orlds discov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’s through To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have changed our understanding of the universe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have changed our understanding of the universe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had many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had many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u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7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wa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u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7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wa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our understanding of our place in the univer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center of the univer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very small planet in an immense expanding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our understanding of our place in the univer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center of the univer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very small planet in an immense expanding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ore we learn, the more questions emerg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Pl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bor lif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ore we learn, the more questions emerg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Pl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bor lif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will continue to expand our understanding of our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will continue to expand our understanding of our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ernicus said “S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said “Ear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1: Is  Earth or Sun at the cen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ernicus said “S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said “Ear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1: Is  Earth or Sun at the cen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observe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lay Optional Mov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observe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lay Optional Mov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2: How far away are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2: How far away are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marking Earth’s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marking Earth’s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C20-4414-4733-BB47-D385632A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9EE-1612-4416-A9E8-49EF6234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8AD82-D34E-4F51-B569-AA5E4582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ADCC7-8926-46D5-B8BA-6138E3CE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27D13-A1CB-411C-8668-1C999B64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814AB-A097-48B8-AE01-04FD1C44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AFCDC-C592-4F91-96F1-739D5325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262E9-10B7-4640-8471-1429D5AD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0AC98-E558-4684-B3E8-D44B9763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796C6-0539-48CD-B27C-F640B879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37043-C0EA-444F-B06C-0147B8BB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689CD-048F-4CAF-8C7C-88F70F76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C3B-169A-4522-87B6-DD2DFA53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F2FF0-9E5C-4200-8B48-2D79E29C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E15EB-0506-406D-A0D5-6CE78410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8B3E0-B858-40DA-B11A-DB0529FE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57714-F812-495E-9711-87814856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58280-6F15-4418-9FCC-C1A9175E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5D08C-9F50-442A-B635-5B9E8613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7AA0B-3015-453E-AFC4-33B0AB9D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CD5C6-7110-4774-B0FB-07AED872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6C40B-37E1-43E4-BD60-1542C29E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9339F-E282-4AA3-8743-3CC23131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3ED-DFDB-415D-9EB9-A8D3AA32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8128C-4CF9-4656-81E6-BE12FDF6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FFA33-5093-4826-98E0-86556139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A1F80-9F5F-475F-8D99-10800409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EA925-9F6B-424B-AE96-27F9A955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71B04-CB1B-4C48-A5BD-9FC5A54F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827D7-59CD-441C-AF0C-FFEF935D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8FF46-8FFF-4D5E-95F1-DE3B3702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9D602-A91D-4D37-B0FA-ABDEA4B7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26FDF-753D-4AD8-90B7-251CBF8A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B863E-0CB2-4EF7-BEF1-3D41DBDB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2167-DE0F-417F-A160-745DDC24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3E365-37EE-4085-8427-7B76C8F5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27127-4F8E-405B-9909-89E18D53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B1E9B-B262-4FE1-B70A-229A7A67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10DF3-E9D9-4B03-867D-501C768E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53BB5-092F-4B9F-B5D8-4A16AFE4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D71DD-2757-4A52-9ED0-25B2C1E6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F57D1-4CA9-4191-A4B1-D9A99642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811CB-BC84-4762-B289-3DF170D6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AD70A-669E-40CC-8588-8416B4F5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C7360-BADE-4E73-903E-E7EDD217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6305-A8DA-42C2-BD90-DF1C8C82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451DD-4676-4CBA-B510-AC6FAA7D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E8493-4D83-47E7-8A3C-2988CBB6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8B923-9F2A-4AEF-88B3-0A46AB97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B589E-7461-404F-A658-E01BBA7C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CB3D1-4BDF-4C02-8CC2-1BC46C02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00E7-C08C-422C-8E68-BFB4BA35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E3C4-0BFB-4E83-8058-E6AC627C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7EC7-5A1B-456C-B3DD-84677101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E6C7-6191-4C2E-ADC6-E877154D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052A-A0F1-47DF-A262-4F61F7BF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101-8A56-4809-8970-35920975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CAF6-554B-4B7F-8B9D-D44B6361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7812-28D5-4BE8-9D7E-CC8D606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B609-693F-49B9-A862-4495348D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BE15-29AC-46BF-A814-A9C078F5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B51E-5B9D-4B4D-9963-F90DBE01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9F8CD-DD6F-494B-9D28-875170BB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0F1DF-732D-43D5-8D1B-F2290C11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63B3A-1F23-4937-B783-A6C633A7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21907-6736-4C44-89F0-067859CC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51F4-464D-4394-9EFB-F3132619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43D-B8E9-40C6-9765-47B5B7BF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F4350-F3EC-4BB5-8149-2ABB7300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7EDB0-4C25-4E62-9A92-43F529CD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4741-4A48-4C36-AF92-5F4FA02D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F8AB-9AEC-46D2-AE55-8FE0135C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E9F37-AB14-4F29-A89C-CF676E12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B005B-20F3-47C2-8071-F1E89792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6F12E-6AB3-4F4C-8F34-4F10A93B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B1C28-B677-457F-A0E2-D1C7F422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A1C2F-4E0B-4708-828E-456F369F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DAB7A-609D-4FED-A57D-39528F39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10B-6E39-4275-A2E7-A996406F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E0A2A-CADB-4F78-8EB0-DB948E7C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1C0CF-70F9-41CF-87B5-A62A4478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5B8C2-9E27-46BA-9C11-C7E9B055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B7B3-38B7-478A-A338-1C9B3A53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329B6-6DA9-4450-887D-D8267C8B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D582C-737F-499A-A1AC-D37D518C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0D301-BB22-4FDE-903B-C740D42D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EF4C4-BCE7-4222-9E94-184386E4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53BB9-E320-4B5A-96BA-48E55B2F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8508F-FD19-4D49-9E82-82A3F9CD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0B5-DCB0-4F9A-80F2-DB368D86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2309C-AAB7-4955-B143-2C865C76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67E6D-0EB9-44B0-8A15-A4182712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7BDE1-602F-4F50-8184-0AB4F5A9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73691-FC2E-4031-A3D6-C981EED9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0685A-0DD1-45F5-8CAD-2946FC73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DB0A9-DBA7-49D0-8295-BD23321C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E1BC4-DD1D-4CB9-B8AC-972319B5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2F2A4-C885-48E3-9EE4-7A113D4A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AFBC8-9F2A-4771-8E23-E15A70F7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7BD3A-AE6D-4139-80DE-6EC2ECB1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2A8-44F6-4BCB-B883-8659FB5C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82FBD-E1E2-4FDB-9F62-759F232B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53FAB-BA3C-4BAF-9D75-4FD0CD4B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77D99-AE79-467E-B23F-AB1C6B2F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2AC72-98EC-40ED-AC02-4B47EC22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0622D-7B9F-4F3B-B336-68860C8D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9CD10-12B7-465D-B056-A29CB802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0FA8A-3B22-4E34-8796-6742C35E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98C12-C595-4F94-99C4-1C298299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0D8B5-FE9A-4FDB-8AA2-B7805C88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01A94-95D2-4B85-A442-E920C472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C00-E8D1-4CF9-9825-3F3BF117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F9B56-40E3-451C-BDCB-5E27C6C0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6BB49-8710-446F-87E0-669E15CB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DEEB9-6670-4D3E-906B-C337CA8E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FE77D-0DE3-4BA3-9611-565F8BE0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93E05-D8BE-4C27-A747-98555A29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26B2E-E2FA-4C51-A461-F71DF0FB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D733C-C16D-4EC0-BF79-9E83EC93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DC49B-8A70-44BC-B2FA-FF93464B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A1007-A940-4233-9BC8-477EBDE8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F50E6-FE24-4D15-BD98-469E17C7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45F-F5D9-4A55-9091-77E53760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E2C7A-46C0-4537-9D70-DCC41FD6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26D43-549A-417D-8961-13047FE9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D1FF8-F3C7-475A-AE9E-01EA8C68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52329-AC82-41ED-BD4C-DB8FBD2E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08A84-E745-4772-9564-41D5B5FD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77BEC-46F4-44F8-A969-3BFAE8E1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13D6B-4E31-4DD4-9516-F44B90D2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3441A-A031-4E55-8F9A-676A1A93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6CA5F-9C0D-4061-9253-0F34D648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EFC21-1717-4202-8510-DEFEE064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A64-8F8A-4424-9FF5-10F3601D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61CA7-861D-4A04-83CC-41C50264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FD55A-550B-4E0A-BA0B-2B065468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95D61-E908-4847-BD6A-854C743A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52E7F-B9EE-4A22-8834-72C3E471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A09D2-B132-4021-9B6B-F686EE1C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6E45B-7039-440F-AF0D-9AD84D67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E0014-F614-4B0E-B5C0-D537F6AC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C2496-61C0-4325-B42F-B758DC22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77D5E-3CE6-4112-A0B9-33524B87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51658-7421-4567-BC8F-BCC209A0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A9D6-14E4-4D58-9540-AC7A4628C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8255-2686-4A98-9516-FC26E671E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E0EA-E6F8-495A-A1FE-B8EFA14C0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1925-A111-4EFD-800B-55EE0785A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4E2B-6D22-4460-8C2F-D4678ACC5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5AE9-68A4-4A21-B0BE-91AB91BB5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813E-CD39-4F51-B324-E3871EB9E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D0EE-1F62-471D-A95A-A584B3DAF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4BA2-4FEF-4068-82D9-5BDA940E3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6805-B27D-4753-B7A8-247C73BE8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A0D0-FF9F-498E-9B1C-B86E4D8133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6CE6-D77E-46BC-92E7-570C01403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32.jpeg"/><Relationship Id="rId5" Type="http://schemas.openxmlformats.org/officeDocument/2006/relationships/image" Target="../media/image52.jpeg"/><Relationship Id="rId6" Type="http://schemas.openxmlformats.org/officeDocument/2006/relationships/image" Target="../media/image58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How Telescopes Changed our Understanding of the Univer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1"/>
          <a:srcRect l="0" t="0" r="13819" b="0"/>
          <a:stretch/>
        </p:blipFill>
        <p:spPr>
          <a:xfrm>
            <a:off x="4724280" y="2743200"/>
            <a:ext cx="4025880" cy="30751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6"/>
          <p:cNvSpPr/>
          <p:nvPr/>
        </p:nvSpPr>
        <p:spPr>
          <a:xfrm>
            <a:off x="4876920" y="586728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5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Background of sta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767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Distance to the stars reveal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8" name="Picture 6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459240" cy="19112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403440" cy="4140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8"/>
          <p:cNvSpPr/>
          <p:nvPr/>
        </p:nvSpPr>
        <p:spPr>
          <a:xfrm>
            <a:off x="5486400" y="5638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riedrich Wilhelm Be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143000" y="3429000"/>
            <a:ext cx="28954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Königsberg Observ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18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23"/>
          <p:cNvGrpSpPr/>
          <p:nvPr/>
        </p:nvGrpSpPr>
        <p:grpSpPr>
          <a:xfrm>
            <a:off x="228600" y="4495680"/>
            <a:ext cx="4673520" cy="1678320"/>
            <a:chOff x="228600" y="4495680"/>
            <a:chExt cx="4673520" cy="1678320"/>
          </a:xfrm>
        </p:grpSpPr>
        <p:pic>
          <p:nvPicPr>
            <p:cNvPr id="584" name="Picture 12" descr=""/>
            <p:cNvPicPr/>
            <p:nvPr/>
          </p:nvPicPr>
          <p:blipFill>
            <a:blip r:embed="rId3"/>
            <a:stretch/>
          </p:blipFill>
          <p:spPr>
            <a:xfrm>
              <a:off x="228600" y="4495680"/>
              <a:ext cx="46735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Line 13"/>
            <p:cNvSpPr/>
            <p:nvPr/>
          </p:nvSpPr>
          <p:spPr>
            <a:xfrm>
              <a:off x="685800" y="5049720"/>
              <a:ext cx="3733920" cy="554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4"/>
            <p:cNvSpPr/>
            <p:nvPr/>
          </p:nvSpPr>
          <p:spPr>
            <a:xfrm flipV="1">
              <a:off x="762120" y="5049360"/>
              <a:ext cx="3733560" cy="554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5"/>
            <p:cNvSpPr/>
            <p:nvPr/>
          </p:nvSpPr>
          <p:spPr>
            <a:xfrm>
              <a:off x="2133720" y="5524560"/>
              <a:ext cx="838080" cy="31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19"/>
            <p:cNvSpPr/>
            <p:nvPr/>
          </p:nvSpPr>
          <p:spPr>
            <a:xfrm>
              <a:off x="380880" y="4724280"/>
              <a:ext cx="685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N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20"/>
            <p:cNvSpPr/>
            <p:nvPr/>
          </p:nvSpPr>
          <p:spPr>
            <a:xfrm>
              <a:off x="304920" y="5715000"/>
              <a:ext cx="12189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6 Months L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AutoShape 18"/>
            <p:cNvSpPr/>
            <p:nvPr/>
          </p:nvSpPr>
          <p:spPr>
            <a:xfrm>
              <a:off x="2438280" y="5181480"/>
              <a:ext cx="228600" cy="22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44" y="6181"/>
                  </a:lnTo>
                  <a:lnTo>
                    <a:pt x="8056" y="10000"/>
                  </a:lnTo>
                  <a:lnTo>
                    <a:pt x="5000" y="7639"/>
                  </a:lnTo>
                  <a:lnTo>
                    <a:pt x="1944" y="10000"/>
                  </a:lnTo>
                  <a:lnTo>
                    <a:pt x="3056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387520" cy="24768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Big Question 3: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are the stars made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371600" y="1600200"/>
            <a:ext cx="1523880" cy="1676520"/>
          </a:xfrm>
          <a:prstGeom prst="wedgeRoundRectCallout">
            <a:avLst>
              <a:gd name="adj1" fmla="val 15314"/>
              <a:gd name="adj2" fmla="val 11183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495680" cy="309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9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1666800" cy="1981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599" name="Picture 6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1392120" cy="19386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600" name="Text Box 7"/>
          <p:cNvSpPr/>
          <p:nvPr/>
        </p:nvSpPr>
        <p:spPr>
          <a:xfrm>
            <a:off x="457200" y="3200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09480" y="55627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Studying the Rainb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3" name="Group 12"/>
          <p:cNvGrpSpPr/>
          <p:nvPr/>
        </p:nvGrpSpPr>
        <p:grpSpPr>
          <a:xfrm>
            <a:off x="2133720" y="4800600"/>
            <a:ext cx="5638680" cy="1145520"/>
            <a:chOff x="2133720" y="4800600"/>
            <a:chExt cx="5638680" cy="1145520"/>
          </a:xfrm>
        </p:grpSpPr>
        <p:pic>
          <p:nvPicPr>
            <p:cNvPr id="604" name="Picture 9" descr="refspecABSORP"/>
            <p:cNvPicPr/>
            <p:nvPr/>
          </p:nvPicPr>
          <p:blipFill>
            <a:blip r:embed="rId4"/>
            <a:srcRect l="14715" t="2671" r="613" b="85469"/>
            <a:stretch/>
          </p:blipFill>
          <p:spPr>
            <a:xfrm>
              <a:off x="2133720" y="4800600"/>
              <a:ext cx="563364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10"/>
            <p:cNvSpPr/>
            <p:nvPr/>
          </p:nvSpPr>
          <p:spPr>
            <a:xfrm>
              <a:off x="2133720" y="5486400"/>
              <a:ext cx="5638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rebuchet MS"/>
                </a:rPr>
                <a:t>Simulated Spectrum of the S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13"/>
          <p:cNvSpPr/>
          <p:nvPr/>
        </p:nvSpPr>
        <p:spPr>
          <a:xfrm>
            <a:off x="6553080" y="35812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15" descr=""/>
          <p:cNvPicPr/>
          <p:nvPr/>
        </p:nvPicPr>
        <p:blipFill>
          <a:blip r:embed="rId5"/>
          <a:stretch/>
        </p:blipFill>
        <p:spPr>
          <a:xfrm>
            <a:off x="2590920" y="1143000"/>
            <a:ext cx="3733560" cy="246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grpSp>
        <p:nvGrpSpPr>
          <p:cNvPr id="608" name="Group 20"/>
          <p:cNvGrpSpPr/>
          <p:nvPr/>
        </p:nvGrpSpPr>
        <p:grpSpPr>
          <a:xfrm>
            <a:off x="2209320" y="2057400"/>
            <a:ext cx="5486760" cy="2666880"/>
            <a:chOff x="2209320" y="2057400"/>
            <a:chExt cx="5486760" cy="2666880"/>
          </a:xfrm>
        </p:grpSpPr>
        <p:sp>
          <p:nvSpPr>
            <p:cNvPr id="609" name="Rectangle 17"/>
            <p:cNvSpPr/>
            <p:nvPr/>
          </p:nvSpPr>
          <p:spPr>
            <a:xfrm>
              <a:off x="4343400" y="2057400"/>
              <a:ext cx="533520" cy="1522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8"/>
            <p:cNvSpPr/>
            <p:nvPr/>
          </p:nvSpPr>
          <p:spPr>
            <a:xfrm flipH="1">
              <a:off x="2209320" y="2209680"/>
              <a:ext cx="213372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9"/>
            <p:cNvSpPr/>
            <p:nvPr/>
          </p:nvSpPr>
          <p:spPr>
            <a:xfrm>
              <a:off x="4876920" y="2209680"/>
              <a:ext cx="281916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21"/>
          <p:cNvSpPr/>
          <p:nvPr/>
        </p:nvSpPr>
        <p:spPr>
          <a:xfrm>
            <a:off x="3733920" y="59436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is the Sun made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3" descr="refspecABSORP"/>
          <p:cNvPicPr/>
          <p:nvPr/>
        </p:nvPicPr>
        <p:blipFill>
          <a:blip r:embed="rId1"/>
          <a:srcRect l="0" t="0" r="0" b="4006"/>
          <a:stretch/>
        </p:blipFill>
        <p:spPr>
          <a:xfrm>
            <a:off x="1295280" y="985680"/>
            <a:ext cx="6654960" cy="5872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178840" y="457200"/>
            <a:ext cx="965160" cy="123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" descr=""/>
          <p:cNvPicPr/>
          <p:nvPr/>
        </p:nvPicPr>
        <p:blipFill>
          <a:blip r:embed="rId3"/>
          <a:stretch/>
        </p:blipFill>
        <p:spPr>
          <a:xfrm>
            <a:off x="0" y="380880"/>
            <a:ext cx="961920" cy="121932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6"/>
          <p:cNvSpPr/>
          <p:nvPr/>
        </p:nvSpPr>
        <p:spPr>
          <a:xfrm>
            <a:off x="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irchh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807732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n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1295280" y="1447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2286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0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1"/>
          <p:cNvSpPr/>
          <p:nvPr/>
        </p:nvSpPr>
        <p:spPr>
          <a:xfrm flipV="1">
            <a:off x="624852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2"/>
          <p:cNvSpPr/>
          <p:nvPr/>
        </p:nvSpPr>
        <p:spPr>
          <a:xfrm flipV="1">
            <a:off x="716292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onfirmed: The Sun is a Sta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8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9"/>
          <p:cNvSpPr/>
          <p:nvPr/>
        </p:nvSpPr>
        <p:spPr>
          <a:xfrm>
            <a:off x="3809880" y="24382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990720" y="49528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The stars are other Sun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4267080" y="6019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1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3809880" cy="2625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33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2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5816520" cy="18237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Big Question 4: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ere is the Sun in our Galax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AutoShape 6"/>
          <p:cNvSpPr/>
          <p:nvPr/>
        </p:nvSpPr>
        <p:spPr>
          <a:xfrm>
            <a:off x="685800" y="1752480"/>
            <a:ext cx="1447920" cy="1676520"/>
          </a:xfrm>
          <a:prstGeom prst="wedgeRoundRectCallout">
            <a:avLst>
              <a:gd name="adj1" fmla="val 33444"/>
              <a:gd name="adj2" fmla="val 10284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5486400" y="1752480"/>
            <a:ext cx="609480" cy="10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8"/>
          <p:cNvSpPr/>
          <p:nvPr/>
        </p:nvSpPr>
        <p:spPr>
          <a:xfrm>
            <a:off x="5791320" y="2743200"/>
            <a:ext cx="0" cy="99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2819520" y="4876920"/>
            <a:ext cx="60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Shapley observes dense star clusters . .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" name="Picture 4" descr=""/>
          <p:cNvPicPr/>
          <p:nvPr/>
        </p:nvPicPr>
        <p:blipFill>
          <a:blip r:embed="rId1"/>
          <a:stretch/>
        </p:blipFill>
        <p:spPr>
          <a:xfrm>
            <a:off x="1387440" y="1432080"/>
            <a:ext cx="995400" cy="1226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"/>
          <p:cNvPicPr/>
          <p:nvPr/>
        </p:nvPicPr>
        <p:blipFill>
          <a:blip r:embed="rId2"/>
          <a:stretch/>
        </p:blipFill>
        <p:spPr>
          <a:xfrm>
            <a:off x="2971800" y="1432080"/>
            <a:ext cx="2016000" cy="3733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"/>
          <p:cNvPicPr/>
          <p:nvPr/>
        </p:nvPicPr>
        <p:blipFill>
          <a:blip r:embed="rId3"/>
          <a:stretch/>
        </p:blipFill>
        <p:spPr>
          <a:xfrm>
            <a:off x="5562720" y="2057400"/>
            <a:ext cx="2438280" cy="162072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7"/>
          <p:cNvSpPr/>
          <p:nvPr/>
        </p:nvSpPr>
        <p:spPr>
          <a:xfrm>
            <a:off x="5562720" y="3733920"/>
            <a:ext cx="243828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Globular Cluster M13</a:t>
            </a:r>
            <a:r>
              <a:rPr b="0" i="1" lang="en-U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2438280" y="5257800"/>
            <a:ext cx="29718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ount Wilson 60-inch Reflector Telescope (completed in 19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1371600" y="2666880"/>
            <a:ext cx="108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Harlow Shap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11" descr=""/>
          <p:cNvPicPr/>
          <p:nvPr/>
        </p:nvPicPr>
        <p:blipFill>
          <a:blip r:embed="rId4"/>
          <a:stretch/>
        </p:blipFill>
        <p:spPr>
          <a:xfrm>
            <a:off x="1066680" y="3657600"/>
            <a:ext cx="1386000" cy="134460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12"/>
          <p:cNvSpPr/>
          <p:nvPr/>
        </p:nvSpPr>
        <p:spPr>
          <a:xfrm>
            <a:off x="1066680" y="5029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Henrietta Leavi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Location of the Sun in the Galax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91440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914400" y="4800600"/>
            <a:ext cx="7391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If the Sun and planets were at the center, globular clusters would be evenly distributed around 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What did Shapley disc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11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2389320"/>
          </a:xfrm>
          <a:prstGeom prst="rect">
            <a:avLst/>
          </a:prstGeom>
          <a:ln w="0">
            <a:noFill/>
          </a:ln>
        </p:spPr>
      </p:pic>
      <p:sp>
        <p:nvSpPr>
          <p:cNvPr id="6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Location of the Sun in the Galaxy establish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838080" y="4757760"/>
            <a:ext cx="746784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Globular clusters are distributed to one side of 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The Solar System is nearer the edge of the Galax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91440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13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45320" cy="239724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Before Telesco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847800" y="4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7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430360" cy="3771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2300400" cy="2008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2546280" cy="32767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1297080" y="58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380880" y="54864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We only had our eye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and a variety of measuring instr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3" descr=""/>
          <p:cNvPicPr/>
          <p:nvPr/>
        </p:nvPicPr>
        <p:blipFill>
          <a:blip r:embed="rId1"/>
          <a:stretch/>
        </p:blipFill>
        <p:spPr>
          <a:xfrm>
            <a:off x="1981080" y="41148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5: One Galaxy or Man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4" name="Group 24"/>
          <p:cNvGrpSpPr/>
          <p:nvPr/>
        </p:nvGrpSpPr>
        <p:grpSpPr>
          <a:xfrm>
            <a:off x="5257800" y="304920"/>
            <a:ext cx="3124080" cy="2562480"/>
            <a:chOff x="5257800" y="304920"/>
            <a:chExt cx="3124080" cy="2562480"/>
          </a:xfrm>
        </p:grpSpPr>
        <p:pic>
          <p:nvPicPr>
            <p:cNvPr id="665" name="Picture 6" descr=""/>
            <p:cNvPicPr/>
            <p:nvPr/>
          </p:nvPicPr>
          <p:blipFill>
            <a:blip r:embed="rId2"/>
            <a:stretch/>
          </p:blipFill>
          <p:spPr>
            <a:xfrm>
              <a:off x="5479920" y="304920"/>
              <a:ext cx="2637000" cy="22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 Box 7"/>
            <p:cNvSpPr/>
            <p:nvPr/>
          </p:nvSpPr>
          <p:spPr>
            <a:xfrm>
              <a:off x="5257800" y="2590920"/>
              <a:ext cx="31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31 - Andromeda  courtesy of G. Spielgelm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18"/>
          <p:cNvGrpSpPr/>
          <p:nvPr/>
        </p:nvGrpSpPr>
        <p:grpSpPr>
          <a:xfrm>
            <a:off x="5029200" y="3733920"/>
            <a:ext cx="2514600" cy="2181240"/>
            <a:chOff x="5029200" y="3733920"/>
            <a:chExt cx="2514600" cy="2181240"/>
          </a:xfrm>
        </p:grpSpPr>
        <p:sp>
          <p:nvSpPr>
            <p:cNvPr id="668" name="Text Box 12"/>
            <p:cNvSpPr/>
            <p:nvPr/>
          </p:nvSpPr>
          <p:spPr>
            <a:xfrm>
              <a:off x="5029200" y="5638680"/>
              <a:ext cx="243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NGC 1232 courtesy of M. Ha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9" name="Picture 17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5105520" y="3733920"/>
              <a:ext cx="2438280" cy="190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0" name="Group 20"/>
          <p:cNvGrpSpPr/>
          <p:nvPr/>
        </p:nvGrpSpPr>
        <p:grpSpPr>
          <a:xfrm>
            <a:off x="1143000" y="457200"/>
            <a:ext cx="2514240" cy="2264040"/>
            <a:chOff x="1143000" y="457200"/>
            <a:chExt cx="2514240" cy="2264040"/>
          </a:xfrm>
        </p:grpSpPr>
        <p:sp>
          <p:nvSpPr>
            <p:cNvPr id="671" name="Text Box 11"/>
            <p:cNvSpPr/>
            <p:nvPr/>
          </p:nvSpPr>
          <p:spPr>
            <a:xfrm>
              <a:off x="1299960" y="2444760"/>
              <a:ext cx="20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51 courtesy of M. Ha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2" name="Picture 19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1143000" y="457200"/>
              <a:ext cx="2514240" cy="204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AutoShape 22"/>
          <p:cNvSpPr/>
          <p:nvPr/>
        </p:nvSpPr>
        <p:spPr>
          <a:xfrm>
            <a:off x="228600" y="3657600"/>
            <a:ext cx="1447920" cy="1676520"/>
          </a:xfrm>
          <a:prstGeom prst="wedgeRoundRectCallout">
            <a:avLst>
              <a:gd name="adj1" fmla="val 101754"/>
              <a:gd name="adj2" fmla="val 5587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Distance to “nebulae” determin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2133720" y="6095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Edwin Hub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066680" y="3200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t Wilson 100-i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6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4038480" cy="33544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680" name="Picture 2183569" descr="S21Picture 2183569"/>
          <p:cNvPicPr/>
          <p:nvPr/>
        </p:nvPicPr>
        <p:blipFill>
          <a:blip r:embed="rId2"/>
          <a:stretch/>
        </p:blipFill>
        <p:spPr>
          <a:xfrm>
            <a:off x="2057400" y="3733920"/>
            <a:ext cx="1739880" cy="22860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681" name="Picture 6571662" descr="S21Picture 6571662"/>
          <p:cNvPicPr/>
          <p:nvPr/>
        </p:nvPicPr>
        <p:blipFill>
          <a:blip r:embed="rId3"/>
          <a:stretch/>
        </p:blipFill>
        <p:spPr>
          <a:xfrm>
            <a:off x="1295280" y="1066680"/>
            <a:ext cx="2514600" cy="21592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682" name="Text Box 9"/>
          <p:cNvSpPr/>
          <p:nvPr/>
        </p:nvSpPr>
        <p:spPr>
          <a:xfrm>
            <a:off x="4495680" y="4621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One of Hubble’s photographs of the Andromeda “Nebula” with Cepheid variable mar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0"/>
          <p:cNvSpPr/>
          <p:nvPr/>
        </p:nvSpPr>
        <p:spPr>
          <a:xfrm flipV="1">
            <a:off x="6400800" y="3097080"/>
            <a:ext cx="0" cy="1524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54864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Revealing a universe full of 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2143080" y="6248520"/>
            <a:ext cx="49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700520" cy="4826160"/>
          </a:xfrm>
          <a:prstGeom prst="rect">
            <a:avLst/>
          </a:prstGeom>
          <a:ln w="0">
            <a:noFill/>
          </a:ln>
        </p:spPr>
      </p:pic>
      <p:sp>
        <p:nvSpPr>
          <p:cNvPr id="68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6: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id the universe have a begin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1" name="Picture 7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692" name="AutoShape 8"/>
          <p:cNvSpPr/>
          <p:nvPr/>
        </p:nvSpPr>
        <p:spPr>
          <a:xfrm>
            <a:off x="1143000" y="1295280"/>
            <a:ext cx="1447920" cy="1676520"/>
          </a:xfrm>
          <a:prstGeom prst="wedgeRoundRectCallout">
            <a:avLst>
              <a:gd name="adj1" fmla="val 21050"/>
              <a:gd name="adj2" fmla="val 14015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3657600" y="56386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dwin Hubble’s data showed that the more distant galaxies are moving away faster than the closer galax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14"/>
          <p:cNvGrpSpPr/>
          <p:nvPr/>
        </p:nvGrpSpPr>
        <p:grpSpPr>
          <a:xfrm>
            <a:off x="3048120" y="1219320"/>
            <a:ext cx="5715000" cy="4248000"/>
            <a:chOff x="3048120" y="1219320"/>
            <a:chExt cx="5715000" cy="4248000"/>
          </a:xfrm>
        </p:grpSpPr>
        <p:pic>
          <p:nvPicPr>
            <p:cNvPr id="695" name="Picture 12" descr=""/>
            <p:cNvPicPr/>
            <p:nvPr/>
          </p:nvPicPr>
          <p:blipFill>
            <a:blip r:embed="rId2"/>
            <a:srcRect l="0" t="0" r="13819" b="0"/>
            <a:stretch/>
          </p:blipFill>
          <p:spPr>
            <a:xfrm>
              <a:off x="3048120" y="1219320"/>
              <a:ext cx="5562360" cy="42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Text Box 13"/>
            <p:cNvSpPr/>
            <p:nvPr/>
          </p:nvSpPr>
          <p:spPr>
            <a:xfrm>
              <a:off x="7086600" y="518148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rebuchet MS"/>
                </a:rPr>
                <a:t>Image Credit: STS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Evidence of Big Bang detect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"/>
          <p:cNvSpPr/>
          <p:nvPr/>
        </p:nvSpPr>
        <p:spPr>
          <a:xfrm>
            <a:off x="6019920" y="1828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11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2767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701" name="Group 14"/>
          <p:cNvGrpSpPr/>
          <p:nvPr/>
        </p:nvGrpSpPr>
        <p:grpSpPr>
          <a:xfrm>
            <a:off x="609480" y="1371600"/>
            <a:ext cx="5334120" cy="4818240"/>
            <a:chOff x="609480" y="1371600"/>
            <a:chExt cx="5334120" cy="4818240"/>
          </a:xfrm>
        </p:grpSpPr>
        <p:pic>
          <p:nvPicPr>
            <p:cNvPr id="702" name="Picture 12" descr=""/>
            <p:cNvPicPr/>
            <p:nvPr/>
          </p:nvPicPr>
          <p:blipFill>
            <a:blip r:embed="rId2"/>
            <a:stretch/>
          </p:blipFill>
          <p:spPr>
            <a:xfrm>
              <a:off x="609480" y="1371600"/>
              <a:ext cx="53341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13"/>
            <p:cNvSpPr/>
            <p:nvPr/>
          </p:nvSpPr>
          <p:spPr>
            <a:xfrm>
              <a:off x="609480" y="5943600"/>
              <a:ext cx="457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Image courtesy of WMAP:  map.gsfc.nasa.g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Age of the Universe calculat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8153280" y="37339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8"/>
          <p:cNvGrpSpPr/>
          <p:nvPr/>
        </p:nvGrpSpPr>
        <p:grpSpPr>
          <a:xfrm>
            <a:off x="1371600" y="1901880"/>
            <a:ext cx="6630840" cy="4956120"/>
            <a:chOff x="1371600" y="1901880"/>
            <a:chExt cx="6630840" cy="4956120"/>
          </a:xfrm>
        </p:grpSpPr>
        <p:pic>
          <p:nvPicPr>
            <p:cNvPr id="708" name="Picture 3" descr=""/>
            <p:cNvPicPr/>
            <p:nvPr/>
          </p:nvPicPr>
          <p:blipFill>
            <a:blip r:embed="rId1"/>
            <a:stretch/>
          </p:blipFill>
          <p:spPr>
            <a:xfrm>
              <a:off x="1371600" y="1901880"/>
              <a:ext cx="663084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Rectangle 7"/>
            <p:cNvSpPr/>
            <p:nvPr/>
          </p:nvSpPr>
          <p:spPr>
            <a:xfrm>
              <a:off x="4724280" y="411156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0" name="Picture 9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10"/>
          <p:cNvSpPr/>
          <p:nvPr/>
        </p:nvSpPr>
        <p:spPr>
          <a:xfrm>
            <a:off x="228600" y="5334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13" descr="hubble"/>
          <p:cNvPicPr/>
          <p:nvPr/>
        </p:nvPicPr>
        <p:blipFill>
          <a:blip r:embed="rId3"/>
          <a:stretch/>
        </p:blipFill>
        <p:spPr>
          <a:xfrm>
            <a:off x="6324480" y="1828800"/>
            <a:ext cx="2286000" cy="183024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11"/>
          <p:cNvSpPr/>
          <p:nvPr/>
        </p:nvSpPr>
        <p:spPr>
          <a:xfrm>
            <a:off x="7467480" y="1676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b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Telescope-Herschel"/>
          <p:cNvPicPr/>
          <p:nvPr/>
        </p:nvPicPr>
        <p:blipFill>
          <a:blip r:embed="rId1"/>
          <a:stretch/>
        </p:blipFill>
        <p:spPr>
          <a:xfrm>
            <a:off x="2819520" y="2362320"/>
            <a:ext cx="2819160" cy="2076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6" name="Text Box 3"/>
          <p:cNvSpPr/>
          <p:nvPr/>
        </p:nvSpPr>
        <p:spPr>
          <a:xfrm>
            <a:off x="2971800" y="472428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Herschel’s telescope -- used to discover Uranus in 17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5" descr="herschel"/>
          <p:cNvPicPr/>
          <p:nvPr/>
        </p:nvPicPr>
        <p:blipFill>
          <a:blip r:embed="rId2"/>
          <a:stretch/>
        </p:blipFill>
        <p:spPr>
          <a:xfrm>
            <a:off x="6019920" y="2286000"/>
            <a:ext cx="1828800" cy="199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8" name="Text Box 6"/>
          <p:cNvSpPr/>
          <p:nvPr/>
        </p:nvSpPr>
        <p:spPr>
          <a:xfrm>
            <a:off x="6019920" y="42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William Hersch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228600" y="12952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In our own solar system, telescopes found planets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our eyes could not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8" descr=""/>
          <p:cNvPicPr/>
          <p:nvPr/>
        </p:nvPicPr>
        <p:blipFill>
          <a:blip r:embed="rId3"/>
          <a:stretch/>
        </p:blipFill>
        <p:spPr>
          <a:xfrm>
            <a:off x="6172200" y="4648320"/>
            <a:ext cx="1657440" cy="2209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1" name="Picture 9" descr=""/>
          <p:cNvPicPr/>
          <p:nvPr/>
        </p:nvPicPr>
        <p:blipFill>
          <a:blip r:embed="rId4"/>
          <a:stretch/>
        </p:blipFill>
        <p:spPr>
          <a:xfrm>
            <a:off x="457200" y="396252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22" name="AutoShape 10"/>
          <p:cNvSpPr/>
          <p:nvPr/>
        </p:nvSpPr>
        <p:spPr>
          <a:xfrm>
            <a:off x="914400" y="2133720"/>
            <a:ext cx="1600200" cy="1676160"/>
          </a:xfrm>
          <a:prstGeom prst="wedgeRoundRectCallout">
            <a:avLst>
              <a:gd name="adj1" fmla="val -9625"/>
              <a:gd name="adj2" fmla="val 86648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7: Are there other plane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3"/>
          <p:cNvSpPr/>
          <p:nvPr/>
        </p:nvSpPr>
        <p:spPr>
          <a:xfrm>
            <a:off x="5105520" y="3581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  <a:ea typeface="ヒラギノ角ゴ Pro W3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Picture 4" descr="kecks_overview_sm"/>
          <p:cNvPicPr/>
          <p:nvPr/>
        </p:nvPicPr>
        <p:blipFill>
          <a:blip r:embed="rId1"/>
          <a:srcRect l="0" t="0" r="3573" b="9115"/>
          <a:stretch/>
        </p:blipFill>
        <p:spPr>
          <a:xfrm>
            <a:off x="5410080" y="1523880"/>
            <a:ext cx="2710080" cy="1997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7" name="Picture 6" descr=""/>
          <p:cNvPicPr/>
          <p:nvPr/>
        </p:nvPicPr>
        <p:blipFill>
          <a:blip r:embed="rId2"/>
          <a:stretch/>
        </p:blipFill>
        <p:spPr>
          <a:xfrm>
            <a:off x="5486400" y="4038480"/>
            <a:ext cx="1587600" cy="2311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28" name="Text Box 7"/>
          <p:cNvSpPr/>
          <p:nvPr/>
        </p:nvSpPr>
        <p:spPr>
          <a:xfrm>
            <a:off x="5486400" y="6324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Geoff M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Other worlds discover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4191120" cy="2719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31" name="Text Box 11"/>
          <p:cNvSpPr/>
          <p:nvPr/>
        </p:nvSpPr>
        <p:spPr>
          <a:xfrm>
            <a:off x="609480" y="5029200"/>
            <a:ext cx="4267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1143000" y="6019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90’s through To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057400" cy="116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7010280" y="533520"/>
            <a:ext cx="1603440" cy="190476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737" name="Picture 8" descr=""/>
          <p:cNvPicPr/>
          <p:nvPr/>
        </p:nvPicPr>
        <p:blipFill>
          <a:blip r:embed="rId4"/>
          <a:stretch/>
        </p:blipFill>
        <p:spPr>
          <a:xfrm>
            <a:off x="762120" y="3124080"/>
            <a:ext cx="1439640" cy="2667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8" name="Picture 9" descr="kecks_overview_sm"/>
          <p:cNvPicPr/>
          <p:nvPr/>
        </p:nvPicPr>
        <p:blipFill>
          <a:blip r:embed="rId5"/>
          <a:srcRect l="0" t="0" r="3573" b="4545"/>
          <a:stretch/>
        </p:blipFill>
        <p:spPr>
          <a:xfrm>
            <a:off x="6172200" y="4952880"/>
            <a:ext cx="1447920" cy="1150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9" name="Picture 10" descr=""/>
          <p:cNvPicPr/>
          <p:nvPr/>
        </p:nvPicPr>
        <p:blipFill>
          <a:blip r:embed="rId6"/>
          <a:stretch/>
        </p:blipFill>
        <p:spPr>
          <a:xfrm>
            <a:off x="7010280" y="2819520"/>
            <a:ext cx="1752840" cy="15080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Telescopes have changed our understanding of the universe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1" name="Picture 13" descr="hubble"/>
          <p:cNvPicPr/>
          <p:nvPr/>
        </p:nvPicPr>
        <p:blipFill>
          <a:blip r:embed="rId7"/>
          <a:stretch/>
        </p:blipFill>
        <p:spPr>
          <a:xfrm>
            <a:off x="2743200" y="5029200"/>
            <a:ext cx="1905120" cy="1525680"/>
          </a:xfrm>
          <a:prstGeom prst="rect">
            <a:avLst/>
          </a:prstGeom>
          <a:ln w="0">
            <a:noFill/>
          </a:ln>
        </p:spPr>
      </p:pic>
      <p:sp>
        <p:nvSpPr>
          <p:cNvPr id="742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0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21"/>
          <p:cNvSpPr/>
          <p:nvPr/>
        </p:nvSpPr>
        <p:spPr>
          <a:xfrm>
            <a:off x="762120" y="2286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22"/>
          <p:cNvSpPr/>
          <p:nvPr/>
        </p:nvSpPr>
        <p:spPr>
          <a:xfrm>
            <a:off x="685800" y="1371600"/>
            <a:ext cx="1523880" cy="1676520"/>
          </a:xfrm>
          <a:prstGeom prst="wedgeRoundRectCallout">
            <a:avLst>
              <a:gd name="adj1" fmla="val 72500"/>
              <a:gd name="adj2" fmla="val 112879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23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far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are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24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25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26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27"/>
          <p:cNvSpPr/>
          <p:nvPr/>
        </p:nvSpPr>
        <p:spPr>
          <a:xfrm>
            <a:off x="4952880" y="990720"/>
            <a:ext cx="1676520" cy="1904760"/>
          </a:xfrm>
          <a:prstGeom prst="wedgeRoundRectCallout">
            <a:avLst>
              <a:gd name="adj1" fmla="val -181060"/>
              <a:gd name="adj2" fmla="val 11558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 S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swering some of the big questio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2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3"/>
          <p:cNvSpPr/>
          <p:nvPr/>
        </p:nvSpPr>
        <p:spPr>
          <a:xfrm>
            <a:off x="685800" y="1371600"/>
            <a:ext cx="1523880" cy="1676520"/>
          </a:xfrm>
          <a:prstGeom prst="wedgeRoundRectCallout">
            <a:avLst>
              <a:gd name="adj1" fmla="val 72500"/>
              <a:gd name="adj2" fmla="val 112879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far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are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6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7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3"/>
          <p:cNvSpPr/>
          <p:nvPr/>
        </p:nvSpPr>
        <p:spPr>
          <a:xfrm>
            <a:off x="4952880" y="1219320"/>
            <a:ext cx="1524240" cy="1676160"/>
          </a:xfrm>
          <a:prstGeom prst="wedgeRoundRectCallout">
            <a:avLst>
              <a:gd name="adj1" fmla="val -194166"/>
              <a:gd name="adj2" fmla="val 12452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And we had many question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3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4"/>
          <p:cNvSpPr/>
          <p:nvPr/>
        </p:nvSpPr>
        <p:spPr>
          <a:xfrm>
            <a:off x="685800" y="1447920"/>
            <a:ext cx="1523880" cy="1600200"/>
          </a:xfrm>
          <a:prstGeom prst="wedgeRoundRectCallout">
            <a:avLst>
              <a:gd name="adj1" fmla="val 72500"/>
              <a:gd name="adj2" fmla="val 115875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un is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5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Su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V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ar awa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6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re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illion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i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7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kn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3.7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years 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8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re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ny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9"/>
          <p:cNvSpPr/>
          <p:nvPr/>
        </p:nvSpPr>
        <p:spPr>
          <a:xfrm>
            <a:off x="4952880" y="1066680"/>
            <a:ext cx="1676520" cy="1828800"/>
          </a:xfrm>
          <a:prstGeom prst="wedgeRoundRectCallout">
            <a:avLst>
              <a:gd name="adj1" fmla="val -181060"/>
              <a:gd name="adj2" fmla="val 118314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lfway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rom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Gala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0"/>
          <p:cNvSpPr/>
          <p:nvPr/>
        </p:nvSpPr>
        <p:spPr>
          <a:xfrm>
            <a:off x="162000" y="284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swering some of the big questio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hanging our understanding of our place in the univers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2635200" y="335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304920" y="2133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From the center of the univer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Picture 6" descr=""/>
          <p:cNvPicPr/>
          <p:nvPr/>
        </p:nvPicPr>
        <p:blipFill>
          <a:blip r:embed="rId1"/>
          <a:srcRect l="0" t="0" r="13819" b="0"/>
          <a:stretch/>
        </p:blipFill>
        <p:spPr>
          <a:xfrm>
            <a:off x="4724280" y="2514600"/>
            <a:ext cx="4025880" cy="307512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7"/>
          <p:cNvSpPr/>
          <p:nvPr/>
        </p:nvSpPr>
        <p:spPr>
          <a:xfrm>
            <a:off x="4648320" y="56386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to a very small planet in an immense expanding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8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769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And the more we learn, the more questions emerg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2558880" y="358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Picture 8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9"/>
          <p:cNvSpPr/>
          <p:nvPr/>
        </p:nvSpPr>
        <p:spPr>
          <a:xfrm>
            <a:off x="685800" y="4572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0"/>
          <p:cNvSpPr/>
          <p:nvPr/>
        </p:nvSpPr>
        <p:spPr>
          <a:xfrm>
            <a:off x="609480" y="1600200"/>
            <a:ext cx="1524240" cy="1676520"/>
          </a:xfrm>
          <a:prstGeom prst="wedgeRoundRectCallout">
            <a:avLst>
              <a:gd name="adj1" fmla="val 87500"/>
              <a:gd name="adj2" fmla="val 8106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yond Plu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 ou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2514600" y="1523880"/>
            <a:ext cx="1600200" cy="1676520"/>
          </a:xfrm>
          <a:prstGeom prst="wedgeRoundRectCallout">
            <a:avLst>
              <a:gd name="adj1" fmla="val -29166"/>
              <a:gd name="adj2" fmla="val 88634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tar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 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2"/>
          <p:cNvSpPr/>
          <p:nvPr/>
        </p:nvSpPr>
        <p:spPr>
          <a:xfrm>
            <a:off x="6934320" y="1905120"/>
            <a:ext cx="1600200" cy="1676160"/>
          </a:xfrm>
          <a:prstGeom prst="wedgeRoundRectCallout">
            <a:avLst>
              <a:gd name="adj1" fmla="val -300990"/>
              <a:gd name="adj2" fmla="val 6846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d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3"/>
          <p:cNvSpPr/>
          <p:nvPr/>
        </p:nvSpPr>
        <p:spPr>
          <a:xfrm>
            <a:off x="6553080" y="3886200"/>
            <a:ext cx="1447920" cy="1676520"/>
          </a:xfrm>
          <a:prstGeom prst="wedgeRoundRectCallout">
            <a:avLst>
              <a:gd name="adj1" fmla="val -305263"/>
              <a:gd name="adj2" fmla="val -4621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y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p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xpand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14"/>
          <p:cNvSpPr/>
          <p:nvPr/>
        </p:nvSpPr>
        <p:spPr>
          <a:xfrm>
            <a:off x="4648320" y="4876920"/>
            <a:ext cx="1447560" cy="1676160"/>
          </a:xfrm>
          <a:prstGeom prst="wedgeRoundRectCallout">
            <a:avLst>
              <a:gd name="adj1" fmla="val -173685"/>
              <a:gd name="adj2" fmla="val -10530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rbor lif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15"/>
          <p:cNvSpPr/>
          <p:nvPr/>
        </p:nvSpPr>
        <p:spPr>
          <a:xfrm>
            <a:off x="4800600" y="1447920"/>
            <a:ext cx="1600200" cy="1676160"/>
          </a:xfrm>
          <a:prstGeom prst="wedgeRoundRectCallout">
            <a:avLst>
              <a:gd name="adj1" fmla="val -168254"/>
              <a:gd name="adj2" fmla="val 92708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y are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 the 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 galax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19"/>
          <p:cNvGrpSpPr/>
          <p:nvPr/>
        </p:nvGrpSpPr>
        <p:grpSpPr>
          <a:xfrm>
            <a:off x="533520" y="1981080"/>
            <a:ext cx="2666880" cy="2357640"/>
            <a:chOff x="533520" y="1981080"/>
            <a:chExt cx="2666880" cy="2357640"/>
          </a:xfrm>
        </p:grpSpPr>
        <p:pic>
          <p:nvPicPr>
            <p:cNvPr id="782" name="Picture 12" descr=""/>
            <p:cNvPicPr/>
            <p:nvPr/>
          </p:nvPicPr>
          <p:blipFill>
            <a:blip r:embed="rId1"/>
            <a:stretch/>
          </p:blipFill>
          <p:spPr>
            <a:xfrm>
              <a:off x="533520" y="1981080"/>
              <a:ext cx="2666880" cy="203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Rectangle 13"/>
            <p:cNvSpPr/>
            <p:nvPr/>
          </p:nvSpPr>
          <p:spPr>
            <a:xfrm>
              <a:off x="809640" y="4092480"/>
              <a:ext cx="199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Chandra Illustration: CXC/NG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20"/>
          <p:cNvGrpSpPr/>
          <p:nvPr/>
        </p:nvGrpSpPr>
        <p:grpSpPr>
          <a:xfrm>
            <a:off x="3581280" y="1981080"/>
            <a:ext cx="2178000" cy="1993320"/>
            <a:chOff x="3581280" y="1981080"/>
            <a:chExt cx="2178000" cy="1993320"/>
          </a:xfrm>
        </p:grpSpPr>
        <p:pic>
          <p:nvPicPr>
            <p:cNvPr id="785" name="Picture 14" descr=""/>
            <p:cNvPicPr/>
            <p:nvPr/>
          </p:nvPicPr>
          <p:blipFill>
            <a:blip r:embed="rId2"/>
            <a:stretch/>
          </p:blipFill>
          <p:spPr>
            <a:xfrm>
              <a:off x="3581280" y="1981080"/>
              <a:ext cx="2107800" cy="166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Rectangle 15"/>
            <p:cNvSpPr/>
            <p:nvPr/>
          </p:nvSpPr>
          <p:spPr>
            <a:xfrm>
              <a:off x="3641400" y="3728160"/>
              <a:ext cx="211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Spitzer Credit: NASA/JPL-Caltec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Group 27"/>
          <p:cNvGrpSpPr/>
          <p:nvPr/>
        </p:nvGrpSpPr>
        <p:grpSpPr>
          <a:xfrm>
            <a:off x="5488560" y="3962520"/>
            <a:ext cx="2831040" cy="2440080"/>
            <a:chOff x="5488560" y="3962520"/>
            <a:chExt cx="2831040" cy="2440080"/>
          </a:xfrm>
        </p:grpSpPr>
        <p:pic>
          <p:nvPicPr>
            <p:cNvPr id="788" name="Picture 16" descr=""/>
            <p:cNvPicPr/>
            <p:nvPr/>
          </p:nvPicPr>
          <p:blipFill>
            <a:blip r:embed="rId3"/>
            <a:stretch/>
          </p:blipFill>
          <p:spPr>
            <a:xfrm>
              <a:off x="6100920" y="3962520"/>
              <a:ext cx="15667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Rectangle 17"/>
            <p:cNvSpPr/>
            <p:nvPr/>
          </p:nvSpPr>
          <p:spPr>
            <a:xfrm>
              <a:off x="5488560" y="6156360"/>
              <a:ext cx="28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GLAST Credit: General Dynamics C4 System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24"/>
          <p:cNvGrpSpPr/>
          <p:nvPr/>
        </p:nvGrpSpPr>
        <p:grpSpPr>
          <a:xfrm>
            <a:off x="6324480" y="1600200"/>
            <a:ext cx="2590920" cy="2151000"/>
            <a:chOff x="6324480" y="1600200"/>
            <a:chExt cx="2590920" cy="2151000"/>
          </a:xfrm>
        </p:grpSpPr>
        <p:pic>
          <p:nvPicPr>
            <p:cNvPr id="791" name="Picture 22" descr="arecibo"/>
            <p:cNvPicPr/>
            <p:nvPr/>
          </p:nvPicPr>
          <p:blipFill>
            <a:blip r:embed="rId4"/>
            <a:stretch/>
          </p:blipFill>
          <p:spPr>
            <a:xfrm>
              <a:off x="6324480" y="1600200"/>
              <a:ext cx="25909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23"/>
            <p:cNvSpPr/>
            <p:nvPr/>
          </p:nvSpPr>
          <p:spPr>
            <a:xfrm>
              <a:off x="6629400" y="3504960"/>
              <a:ext cx="228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Arecibo Image Courtesy of the NA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Telescopes will continue to expand our understanding of our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4" name="Group 33"/>
          <p:cNvGrpSpPr/>
          <p:nvPr/>
        </p:nvGrpSpPr>
        <p:grpSpPr>
          <a:xfrm>
            <a:off x="685800" y="4419720"/>
            <a:ext cx="3048120" cy="2227320"/>
            <a:chOff x="685800" y="4419720"/>
            <a:chExt cx="3048120" cy="2227320"/>
          </a:xfrm>
        </p:grpSpPr>
        <p:pic>
          <p:nvPicPr>
            <p:cNvPr id="795" name="Picture 31" descr=""/>
            <p:cNvPicPr/>
            <p:nvPr/>
          </p:nvPicPr>
          <p:blipFill>
            <a:blip r:embed="rId5"/>
            <a:stretch/>
          </p:blipFill>
          <p:spPr>
            <a:xfrm>
              <a:off x="685800" y="4419720"/>
              <a:ext cx="304812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32"/>
            <p:cNvSpPr/>
            <p:nvPr/>
          </p:nvSpPr>
          <p:spPr>
            <a:xfrm>
              <a:off x="762120" y="6400800"/>
              <a:ext cx="297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Keck Image courtesy of NASA/JPL/Calte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9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2387520" cy="2476800"/>
          </a:xfrm>
          <a:prstGeom prst="rect">
            <a:avLst/>
          </a:prstGeom>
          <a:ln w="0">
            <a:noFill/>
          </a:ln>
        </p:spPr>
      </p:pic>
      <p:sp>
        <p:nvSpPr>
          <p:cNvPr id="522" name="AutoShape 3"/>
          <p:cNvSpPr/>
          <p:nvPr/>
        </p:nvSpPr>
        <p:spPr>
          <a:xfrm>
            <a:off x="762120" y="1371600"/>
            <a:ext cx="1600200" cy="1676520"/>
          </a:xfrm>
          <a:prstGeom prst="wedgeRoundRectCallout">
            <a:avLst>
              <a:gd name="adj1" fmla="val 5754"/>
              <a:gd name="adj2" fmla="val 12102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444844" descr="S7Picture 444844"/>
          <p:cNvPicPr/>
          <p:nvPr/>
        </p:nvPicPr>
        <p:blipFill>
          <a:blip r:embed="rId2"/>
          <a:stretch/>
        </p:blipFill>
        <p:spPr>
          <a:xfrm>
            <a:off x="5638680" y="91440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718501" descr="S7Picture 5718501"/>
          <p:cNvPicPr/>
          <p:nvPr/>
        </p:nvPicPr>
        <p:blipFill>
          <a:blip r:embed="rId3"/>
          <a:stretch/>
        </p:blipFill>
        <p:spPr>
          <a:xfrm>
            <a:off x="5638680" y="4089240"/>
            <a:ext cx="2895840" cy="26830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6"/>
          <p:cNvSpPr/>
          <p:nvPr/>
        </p:nvSpPr>
        <p:spPr>
          <a:xfrm>
            <a:off x="2819520" y="4876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Copernicus said “Su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2895480" y="2286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Aristotle said “Eart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Big Question 1: Is  Earth or Sun at the cen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Galileo observes Ve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7010280" y="1981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Earth-center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7086600" y="47563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Sun-center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23"/>
          <p:cNvGrpSpPr/>
          <p:nvPr/>
        </p:nvGrpSpPr>
        <p:grpSpPr>
          <a:xfrm>
            <a:off x="304920" y="4648320"/>
            <a:ext cx="2057400" cy="1371600"/>
            <a:chOff x="304920" y="4648320"/>
            <a:chExt cx="2057400" cy="1371600"/>
          </a:xfrm>
        </p:grpSpPr>
        <p:sp>
          <p:nvSpPr>
            <p:cNvPr id="533" name="Text Box 6"/>
            <p:cNvSpPr/>
            <p:nvPr/>
          </p:nvSpPr>
          <p:spPr>
            <a:xfrm>
              <a:off x="304920" y="472428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rebuchet MS"/>
                </a:rPr>
                <a:t>What Galileo ob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7"/>
            <p:cNvSpPr/>
            <p:nvPr/>
          </p:nvSpPr>
          <p:spPr>
            <a:xfrm>
              <a:off x="1828800" y="5257800"/>
              <a:ext cx="533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8"/>
            <p:cNvSpPr/>
            <p:nvPr/>
          </p:nvSpPr>
          <p:spPr>
            <a:xfrm>
              <a:off x="457200" y="4648320"/>
              <a:ext cx="1371600" cy="1371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Picture 938792" descr="S8Picture 938792"/>
          <p:cNvPicPr/>
          <p:nvPr/>
        </p:nvPicPr>
        <p:blipFill>
          <a:blip r:embed="rId1"/>
          <a:stretch/>
        </p:blipFill>
        <p:spPr>
          <a:xfrm>
            <a:off x="7391520" y="512640"/>
            <a:ext cx="1752480" cy="9939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0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38280" cy="19526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1"/>
          <p:cNvSpPr/>
          <p:nvPr/>
        </p:nvSpPr>
        <p:spPr>
          <a:xfrm>
            <a:off x="3019680" y="6600960"/>
            <a:ext cx="361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2"/>
          <p:cNvSpPr/>
          <p:nvPr/>
        </p:nvSpPr>
        <p:spPr>
          <a:xfrm>
            <a:off x="0" y="2362320"/>
            <a:ext cx="2133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Ven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pha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reveal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3" descr=""/>
          <p:cNvPicPr/>
          <p:nvPr/>
        </p:nvPicPr>
        <p:blipFill>
          <a:blip r:embed="rId3"/>
          <a:stretch/>
        </p:blipFill>
        <p:spPr>
          <a:xfrm>
            <a:off x="2362320" y="3886200"/>
            <a:ext cx="4800600" cy="2598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4" descr=""/>
          <p:cNvPicPr/>
          <p:nvPr/>
        </p:nvPicPr>
        <p:blipFill>
          <a:blip r:embed="rId4"/>
          <a:stretch/>
        </p:blipFill>
        <p:spPr>
          <a:xfrm>
            <a:off x="2362320" y="1066680"/>
            <a:ext cx="4724280" cy="2662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5" descr=""/>
          <p:cNvPicPr/>
          <p:nvPr/>
        </p:nvPicPr>
        <p:blipFill>
          <a:blip r:embed="rId5"/>
          <a:stretch/>
        </p:blipFill>
        <p:spPr>
          <a:xfrm>
            <a:off x="2362320" y="1600200"/>
            <a:ext cx="685800" cy="6523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6"/>
          <p:cNvSpPr/>
          <p:nvPr/>
        </p:nvSpPr>
        <p:spPr>
          <a:xfrm>
            <a:off x="0" y="65214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lay Optional Mov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17"/>
          <p:cNvSpPr/>
          <p:nvPr/>
        </p:nvSpPr>
        <p:spPr>
          <a:xfrm>
            <a:off x="5867280" y="5334120"/>
            <a:ext cx="762120" cy="761760"/>
          </a:xfrm>
          <a:prstGeom prst="ellipse">
            <a:avLst/>
          </a:prstGeom>
          <a:noFill/>
          <a:ln w="9360">
            <a:solidFill>
              <a:srgbClr val="ff99cc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18"/>
          <p:cNvSpPr/>
          <p:nvPr/>
        </p:nvSpPr>
        <p:spPr>
          <a:xfrm>
            <a:off x="5638680" y="5105520"/>
            <a:ext cx="1219320" cy="1218960"/>
          </a:xfrm>
          <a:prstGeom prst="ellipse">
            <a:avLst/>
          </a:prstGeom>
          <a:noFill/>
          <a:ln w="9360">
            <a:solidFill>
              <a:srgbClr val="3366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9"/>
          <p:cNvSpPr/>
          <p:nvPr/>
        </p:nvSpPr>
        <p:spPr>
          <a:xfrm>
            <a:off x="4648320" y="9144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20"/>
          <p:cNvSpPr/>
          <p:nvPr/>
        </p:nvSpPr>
        <p:spPr>
          <a:xfrm flipV="1">
            <a:off x="4724280" y="48006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1"/>
          <p:cNvSpPr/>
          <p:nvPr/>
        </p:nvSpPr>
        <p:spPr>
          <a:xfrm>
            <a:off x="5410080" y="2057400"/>
            <a:ext cx="167652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5486400" y="4800600"/>
            <a:ext cx="1676520" cy="1676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14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Big Question 2: How far away are the sta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13"/>
          <p:cNvSpPr/>
          <p:nvPr/>
        </p:nvSpPr>
        <p:spPr>
          <a:xfrm>
            <a:off x="1371600" y="1447920"/>
            <a:ext cx="1523880" cy="1676160"/>
          </a:xfrm>
          <a:prstGeom prst="wedgeRoundRectCallout">
            <a:avLst>
              <a:gd name="adj1" fmla="val 15314"/>
              <a:gd name="adj2" fmla="val 11183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w f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w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17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4876560" cy="3243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55" name="Rectangle 18"/>
          <p:cNvSpPr/>
          <p:nvPr/>
        </p:nvSpPr>
        <p:spPr>
          <a:xfrm>
            <a:off x="4807080" y="5257800"/>
            <a:ext cx="28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Parallax if stars were ~5000 times clo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76760"/>
          </a:xfrm>
          <a:prstGeom prst="rect">
            <a:avLst/>
          </a:prstGeom>
          <a:ln w="0">
            <a:noFill/>
          </a:ln>
        </p:spPr>
      </p:pic>
      <p:sp>
        <p:nvSpPr>
          <p:cNvPr id="559" name="Line 6"/>
          <p:cNvSpPr/>
          <p:nvPr/>
        </p:nvSpPr>
        <p:spPr>
          <a:xfrm>
            <a:off x="6781680" y="36576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Parallax if stars were ~5000 times clo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64160"/>
          </a:xfrm>
          <a:prstGeom prst="rect">
            <a:avLst/>
          </a:prstGeom>
          <a:ln w="0">
            <a:noFill/>
          </a:ln>
        </p:spPr>
      </p:pic>
      <p:sp>
        <p:nvSpPr>
          <p:cNvPr id="564" name="Line 6"/>
          <p:cNvSpPr/>
          <p:nvPr/>
        </p:nvSpPr>
        <p:spPr>
          <a:xfrm>
            <a:off x="5715000" y="36576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Your eyes marking Earth’s Orb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264200" cy="4343400"/>
          </a:xfrm>
          <a:prstGeom prst="rect">
            <a:avLst/>
          </a:prstGeom>
          <a:ln w="0">
            <a:noFill/>
          </a:ln>
        </p:spPr>
      </p:pic>
      <p:grpSp>
        <p:nvGrpSpPr>
          <p:cNvPr id="569" name="Group 11"/>
          <p:cNvGrpSpPr/>
          <p:nvPr/>
        </p:nvGrpSpPr>
        <p:grpSpPr>
          <a:xfrm>
            <a:off x="4038480" y="2819520"/>
            <a:ext cx="1524240" cy="1523880"/>
            <a:chOff x="4038480" y="2819520"/>
            <a:chExt cx="1524240" cy="1523880"/>
          </a:xfrm>
        </p:grpSpPr>
        <p:sp>
          <p:nvSpPr>
            <p:cNvPr id="570" name="Oval 7"/>
            <p:cNvSpPr/>
            <p:nvPr/>
          </p:nvSpPr>
          <p:spPr>
            <a:xfrm>
              <a:off x="4038480" y="2819520"/>
              <a:ext cx="1524240" cy="15238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0"/>
            <p:cNvSpPr/>
            <p:nvPr/>
          </p:nvSpPr>
          <p:spPr>
            <a:xfrm>
              <a:off x="4724280" y="2819520"/>
              <a:ext cx="152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27:06Z</dcterms:created>
  <dc:creator>Marni Berendsen</dc:creator>
  <dc:description/>
  <dc:language>en-US</dc:language>
  <cp:lastModifiedBy>LEGION</cp:lastModifiedBy>
  <cp:lastPrinted>2005-11-08T18:18:53Z</cp:lastPrinted>
  <dcterms:modified xsi:type="dcterms:W3CDTF">2018-03-22T09:27:52Z</dcterms:modified>
  <cp:revision>139</cp:revision>
  <dc:subject/>
  <dc:title>How Telescopes Changed our Universe</dc:title>
</cp:coreProperties>
</file>